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F764-45D7-4812-BD82-CFB92058C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CEAD-30EE-452C-B673-0A2CE4ACFD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82D-6CF2-42EE-A5C4-538ACD23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386-C929-4903-9941-C39272F7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13B12-C1FC-4D17-8E29-EEB28809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DD82D-EEEA-4581-B870-89048B7C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33CD1-F474-4033-9D6F-2C0C036F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03751-4452-41C6-A087-4010120E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E6FC1-6196-4852-9AF0-6126491C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0603A-2E97-4BA4-86AE-6676D81B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C1BF7-75B0-4133-A78F-AF34D878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39E0D-DF2D-4316-83B7-57467BDD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4B67A-89B7-463B-AD0D-3CBFB65F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10F-719D-4BCE-815F-A0A4BC35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B6F-5D70-4806-A649-6EEBA0EF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86FC-4630-4C11-8A18-BC528282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D232-76A3-4B9F-A896-8B597CD6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0B01-FB39-49FD-85F5-76F42E7A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0A32-91D6-409B-B0AA-4CC27B05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BFDF-5E7C-4743-84F5-2E882602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1844-2B63-4F70-9E1B-9525B6F9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9414-9DA4-40EE-9F9B-909793F2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34C7-2FEB-4699-A389-4F389831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D0FB-A4C7-40C0-AA4A-C04F9008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788D-19B8-4523-A8A0-F04AA127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FA88-2538-472E-9CB0-64122EA6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D4F9-A054-4C63-A8B2-F72627A3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A5AD-3CCC-4034-A561-6B981006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FD25-E4E0-4E6E-85D7-89852777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04AF9-4A36-4343-BA34-645240AF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C4BD8-5BA7-473E-A3B7-C1F6F667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EEA38-BBF7-489E-969D-BE16CA79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93627-B153-4D82-BF96-8B0A919B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0A9-F641-4E15-8B41-CD96D662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5EFCA-7361-4128-9BC2-43E05F90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1493F-013D-4D63-9E43-C0113DD7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D322F-B4AF-4865-A7AA-D491E670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B8D80-41A6-41A3-BAD0-83AFD27E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761D3-9FF6-440D-9334-6B34205B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48C13-EB41-4D28-98F4-1DDDA7DA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F030E-5452-4DE7-82BE-C31ED141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1BF01-5C70-4CD9-9E95-6C9A87BB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79D72-C336-4F94-B72E-9301649D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D526D-C55A-4D81-AC9C-38DFCAA1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63BF-B278-4E0E-9465-DEDE5142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3A06C-97A5-4C4B-A988-F41C9965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6247C-ED3B-4D1E-9EB2-B891D012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3A108-A7E9-442F-95FB-A2C39F44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0C128-EF35-4E21-817E-97588A79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0FA3A-B199-4F3D-AA98-1A1EE9BE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BFB6A-FA4C-4B15-9D7E-C3F577C8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78070-4C2A-47B7-8453-DE1AA110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5FE7F-BA94-41FE-9EF7-7C1D950E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B3865-45A7-4917-BE84-FED0E2D3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9D7F5-DD23-4D6E-B6A5-F6BD8485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AEA-7444-41F4-9F17-5740469F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90534-C5F6-477D-B1C2-DD262FCA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5EA2F-DAD9-4B3D-AC70-8E8063A9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F56F4-D66F-49F7-8672-3DDF3B11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347B4-2D97-43E4-8104-8CC92A97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A300D-B069-4A8E-A01F-70779366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9A25B-93EE-4B88-A405-9C494F84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6C7EF-0A80-464E-AF66-B035D18C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946D8-2071-4956-B731-C218A531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BB291-05E9-4EA6-B12B-25881FCC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868B6-A061-498E-8C37-4D2A3075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0C9E-3D5B-43BB-A2D6-954278B0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9A5E7-394C-4D9E-975B-111F7B4E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B802A-5499-4D50-9CDB-61189FB8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8D35F-A4AB-4CB7-8E29-1555D78C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F8E0A-32F9-4B4B-B390-FEA3D8FE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E6EAD-3CAC-4A6A-A197-14275EDD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54435-6BA6-4F08-863D-64BEF22A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81EFD-6BAC-4D34-83C5-3494C1C9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B3BD4-3FE6-4FA2-A617-4DEB2FCE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0D4BC-70B7-4111-ADCA-781CD2D1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0EBDD-1574-44B5-ADB4-93282A87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C83-4595-4936-8C37-6C3C233B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DD5F6-3EC5-4185-B2D7-FFCAA7D7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02F9C-995B-4BFB-B6AC-607B5363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F5C26-3419-4C66-8F5F-72DF9489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09E2E-F350-4D22-AEA8-654871EF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20D50-3614-4520-A21E-20C003D3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1FA7F-4B72-493F-9DCB-CE78EAA6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D0BE9-DD68-402F-8651-5723848E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E0E3D-DFFF-435B-BFCA-F692D44C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11FE4-FF1A-4EB7-A4DB-AD340CCF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4D39B-3B31-4ADB-B8B5-F3FE2F3F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9FE-62C6-4B76-BBE8-7CEAD52D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9B22B-433E-4453-9FD7-211381F3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AFD4E-C263-4A7A-B4B1-F7810FED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9C95D-8225-49AF-BABA-EE17CDA9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7DB42-289D-4C20-B2DE-C81C0FAE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0FC32-6365-4767-B848-9532D51E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83977-0847-4939-A15D-B9AB5F43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CE63A-0349-45FA-B3C1-600EF710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F09F1-2988-4F96-824F-43A1311E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BB7EA-B858-4D35-AB99-DD6E3D0A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F7B0C-05BE-4540-A79E-DD617E99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1D9-011E-4C47-A066-DE148E08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73F2A-2BF2-4139-AF39-F205D9D0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01798-2FEC-4D33-B0D8-06CDAF15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CC81D-5E7C-443B-AD69-CA69B207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1CFD7-F051-4795-A85D-630BCC69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915D0-DC35-4B93-89FB-A7DE2973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6E030-5F49-4B57-9E4E-5A8EE36F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3C953-9BE9-46F6-B347-13EA98B2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227D3-1C3C-43CE-99EC-B91B2D54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A9A6F-99A1-4C83-AC7C-F16FEF80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52765-FFE4-4395-99AD-D5A4C184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ugaoni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ravougaoni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79A7-6E1E-4852-BDE8-AC46608A42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avougaoni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ravougaonik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FA69-A54B-4D9E-AE95-8B929691E1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ravougaoni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ravougaonik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CCED-8294-40CD-935A-31A70EC129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FF1D-1F18-4090-9F6B-B910305421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ravougaoni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ravougaoni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ravougaonik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ravougaonik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23DC-4A4F-42A2-9B64-83CC94549E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ravougaoni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ravougaoni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ravougaoni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ravougaoni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C17F-15B2-4F2C-8B23-AC71DE8C28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ravougaoni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ravougaonik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99B3-D7BC-4C6E-A440-7BD1BBFC44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ravougaoni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ravougaoni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C821-DB21-45E6-96A7-059CAC8AA7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ravougaoni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ravougaoni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A7E5-42A7-4398-B7FD-107BC80E70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Line 5"/>
          <p:cNvSpPr/>
          <p:nvPr/>
        </p:nvSpPr>
        <p:spPr>
          <a:xfrm>
            <a:off x="609480" y="3200400"/>
            <a:ext cx="7696440" cy="0"/>
          </a:xfrm>
          <a:prstGeom prst="line">
            <a:avLst/>
          </a:prstGeom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kvir za tekst 4"/>
          <p:cNvSpPr/>
          <p:nvPr/>
        </p:nvSpPr>
        <p:spPr>
          <a:xfrm>
            <a:off x="1850400" y="1854360"/>
            <a:ext cx="570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ДЕНТАЛНА ОКЛУЗИЈА 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ФУНКЦИЈА ВИЛ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59840" cy="12855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218960" y="2971440"/>
            <a:ext cx="7924680" cy="453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Стоматогнати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систем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Максилофацијални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систем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Мастикаторни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систем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Мастикаторни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апарат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Орган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жвакањ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472320" y="1752480"/>
            <a:ext cx="8373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Скуп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органа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ткива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која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заједнички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обављају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низ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виталних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фун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организ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8"/>
          <p:cNvSpPr/>
          <p:nvPr/>
        </p:nvSpPr>
        <p:spPr>
          <a:xfrm>
            <a:off x="685800" y="1371600"/>
            <a:ext cx="8153280" cy="0"/>
          </a:xfrm>
          <a:prstGeom prst="line">
            <a:avLst/>
          </a:prstGeom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3" descr="D:\Documents and Settings\toma\My Documents\My Pictures\za prezentaciju.jpg"/>
          <p:cNvPicPr/>
          <p:nvPr/>
        </p:nvPicPr>
        <p:blipFill>
          <a:blip r:embed="rId1"/>
          <a:stretch/>
        </p:blipFill>
        <p:spPr>
          <a:xfrm>
            <a:off x="4925880" y="1828800"/>
            <a:ext cx="4699080" cy="50292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"/>
          <p:cNvSpPr/>
          <p:nvPr/>
        </p:nvSpPr>
        <p:spPr>
          <a:xfrm>
            <a:off x="228600" y="21096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Corbel"/>
              </a:rPr>
              <a:t>Орофацијални систем представља скуп органа и ткива различите анатомске и хистолошке грађе, различитих морфолошких карактеристика који су обједињени заједничким функцијама као што су жвакање, гутање, говор, дисање и физиогномски изглед.</a:t>
            </a:r>
            <a:r>
              <a:rPr b="1" lang="sr-Latn-R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Corbel"/>
              </a:rPr>
              <a:t>Структуре које чине орофацијални систем су</a:t>
            </a:r>
            <a:r>
              <a:rPr b="1" lang="sr-Latn-RS" sz="2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457200" y="1981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емпоромандибуларни зглобо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470880" y="2351160"/>
            <a:ext cx="29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Горња и доња вил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470520" y="2703600"/>
            <a:ext cx="33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уби са пародонцијум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457200" y="3086280"/>
            <a:ext cx="33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Мастикаторни мишић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482040" y="3456000"/>
            <a:ext cx="45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адхиоидни и подхиоидни мишић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480960" y="3824280"/>
            <a:ext cx="40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Мишићи језика, врата и раме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484560" y="4194000"/>
            <a:ext cx="50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Централни и периферни нервни сист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4"/>
          <p:cNvSpPr/>
          <p:nvPr/>
        </p:nvSpPr>
        <p:spPr>
          <a:xfrm>
            <a:off x="2023560" y="446040"/>
            <a:ext cx="48549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66"/>
                </a:solidFill>
                <a:latin typeface="Arial Black"/>
              </a:rPr>
              <a:t>ОРОФАЦИЈАЛНИ СИС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" name="Diagram 2"/>
          <p:cNvGrpSpPr/>
          <p:nvPr/>
        </p:nvGrpSpPr>
        <p:grpSpPr>
          <a:xfrm>
            <a:off x="1444680" y="1462680"/>
            <a:ext cx="6476760" cy="4357440"/>
            <a:chOff x="1444680" y="1462680"/>
            <a:chExt cx="6476760" cy="4357440"/>
          </a:xfrm>
        </p:grpSpPr>
        <p:sp>
          <p:nvSpPr>
            <p:cNvPr id="413" name="_s1028"/>
            <p:cNvSpPr/>
            <p:nvPr/>
          </p:nvSpPr>
          <p:spPr>
            <a:xfrm>
              <a:off x="1444680" y="4274640"/>
              <a:ext cx="2085480" cy="1541880"/>
            </a:xfrm>
            <a:prstGeom prst="ellipse">
              <a:avLst/>
            </a:prstGeom>
            <a:blipFill rotWithShape="0">
              <a:blip r:embed="rId1">
                <a:alphaModFix amt="50000"/>
              </a:blip>
              <a:srcRect/>
              <a:stretch/>
            </a:blipFill>
            <a:ln w="9360">
              <a:solidFill>
                <a:srgbClr val="5a63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_s1029"/>
            <p:cNvSpPr/>
            <p:nvPr/>
          </p:nvSpPr>
          <p:spPr>
            <a:xfrm>
              <a:off x="4397760" y="1462680"/>
              <a:ext cx="75708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_s1030"/>
            <p:cNvSpPr/>
            <p:nvPr/>
          </p:nvSpPr>
          <p:spPr>
            <a:xfrm>
              <a:off x="3248640" y="3323160"/>
              <a:ext cx="2090160" cy="1496160"/>
            </a:xfrm>
            <a:prstGeom prst="ellipse">
              <a:avLst/>
            </a:prstGeom>
            <a:blipFill rotWithShape="0">
              <a:blip r:embed="rId2">
                <a:alphaModFix amt="50000"/>
              </a:blip>
              <a:srcRect/>
              <a:stretch/>
            </a:blipFill>
            <a:ln w="9360">
              <a:solidFill>
                <a:srgbClr val="168b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_s1031"/>
            <p:cNvSpPr/>
            <p:nvPr/>
          </p:nvSpPr>
          <p:spPr>
            <a:xfrm>
              <a:off x="7163640" y="3391200"/>
              <a:ext cx="7578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_s1032"/>
            <p:cNvSpPr/>
            <p:nvPr/>
          </p:nvSpPr>
          <p:spPr>
            <a:xfrm>
              <a:off x="5062680" y="4322520"/>
              <a:ext cx="2090520" cy="1497600"/>
            </a:xfrm>
            <a:prstGeom prst="ellipse">
              <a:avLst/>
            </a:prstGeom>
            <a:blipFill rotWithShape="0">
              <a:blip r:embed="rId3">
                <a:alphaModFix amt="50000"/>
              </a:blip>
              <a:srcRect/>
              <a:stretch/>
            </a:blipFill>
            <a:ln w="936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_s1033"/>
            <p:cNvSpPr/>
            <p:nvPr/>
          </p:nvSpPr>
          <p:spPr>
            <a:xfrm>
              <a:off x="4397760" y="5320080"/>
              <a:ext cx="75708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_s1034"/>
            <p:cNvSpPr/>
            <p:nvPr/>
          </p:nvSpPr>
          <p:spPr>
            <a:xfrm>
              <a:off x="3225600" y="1689480"/>
              <a:ext cx="2090520" cy="1496160"/>
            </a:xfrm>
            <a:prstGeom prst="ellipse">
              <a:avLst/>
            </a:prstGeom>
            <a:blipFill rotWithShape="0">
              <a:blip r:embed="rId4">
                <a:alphaModFix amt="50000"/>
              </a:blip>
              <a:srcRect/>
              <a:stretch/>
            </a:blipFill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_s1035"/>
            <p:cNvSpPr/>
            <p:nvPr/>
          </p:nvSpPr>
          <p:spPr>
            <a:xfrm>
              <a:off x="1631520" y="3391200"/>
              <a:ext cx="75708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Pravougaonik 12"/>
          <p:cNvSpPr/>
          <p:nvPr/>
        </p:nvSpPr>
        <p:spPr>
          <a:xfrm>
            <a:off x="2047320" y="481500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0066"/>
                </a:solidFill>
                <a:latin typeface="Arial"/>
              </a:rPr>
              <a:t>ТМ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ravougaonik 13"/>
          <p:cNvSpPr/>
          <p:nvPr/>
        </p:nvSpPr>
        <p:spPr>
          <a:xfrm>
            <a:off x="5392800" y="487188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0066"/>
                </a:solidFill>
                <a:latin typeface="Arial"/>
              </a:rPr>
              <a:t>Мишић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ravougaonik 14"/>
          <p:cNvSpPr/>
          <p:nvPr/>
        </p:nvSpPr>
        <p:spPr>
          <a:xfrm>
            <a:off x="3878280" y="38606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0066"/>
                </a:solidFill>
                <a:latin typeface="Arial"/>
              </a:rPr>
              <a:t>ЦН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ravougaonik 15"/>
          <p:cNvSpPr/>
          <p:nvPr/>
        </p:nvSpPr>
        <p:spPr>
          <a:xfrm>
            <a:off x="3581280" y="2209680"/>
            <a:ext cx="14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000" spc="-1" strike="noStrike">
                <a:solidFill>
                  <a:srgbClr val="ff0066"/>
                </a:solidFill>
                <a:latin typeface="Arial"/>
              </a:rPr>
              <a:t>Оклуз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21"/>
          <p:cNvSpPr/>
          <p:nvPr/>
        </p:nvSpPr>
        <p:spPr>
          <a:xfrm flipV="1">
            <a:off x="2666880" y="2971800"/>
            <a:ext cx="457200" cy="990720"/>
          </a:xfrm>
          <a:prstGeom prst="line">
            <a:avLst/>
          </a:prstGeom>
          <a:ln cap="sq" w="57240">
            <a:solidFill>
              <a:srgbClr val="ff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22"/>
          <p:cNvSpPr/>
          <p:nvPr/>
        </p:nvSpPr>
        <p:spPr>
          <a:xfrm>
            <a:off x="5334120" y="2971800"/>
            <a:ext cx="533160" cy="990720"/>
          </a:xfrm>
          <a:prstGeom prst="line">
            <a:avLst/>
          </a:prstGeom>
          <a:ln cap="sq" w="57240">
            <a:solidFill>
              <a:srgbClr val="ff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23"/>
          <p:cNvSpPr/>
          <p:nvPr/>
        </p:nvSpPr>
        <p:spPr>
          <a:xfrm flipH="1">
            <a:off x="3608280" y="5124600"/>
            <a:ext cx="1371600" cy="0"/>
          </a:xfrm>
          <a:prstGeom prst="line">
            <a:avLst/>
          </a:prstGeom>
          <a:ln cap="sq" w="57240">
            <a:solidFill>
              <a:srgbClr val="ff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231840" y="158760"/>
            <a:ext cx="8485200" cy="13413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1752480" y="2327040"/>
            <a:ext cx="8229600" cy="453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3200" spc="-1" strike="noStrike">
                <a:solidFill>
                  <a:srgbClr val="ffffff"/>
                </a:solidFill>
                <a:latin typeface="Corbel"/>
              </a:rPr>
              <a:t>Жвакањ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3200" spc="-1" strike="noStrike">
                <a:solidFill>
                  <a:srgbClr val="ffffff"/>
                </a:solidFill>
                <a:latin typeface="Corbel"/>
              </a:rPr>
              <a:t>Гутањ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3200" spc="-1" strike="noStrike">
                <a:solidFill>
                  <a:srgbClr val="ffffff"/>
                </a:solidFill>
                <a:latin typeface="Corbel"/>
              </a:rPr>
              <a:t>Говор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3200" spc="-1" strike="noStrike">
                <a:solidFill>
                  <a:srgbClr val="ffffff"/>
                </a:solidFill>
                <a:latin typeface="Corbel"/>
              </a:rPr>
              <a:t>Дисањ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3200" spc="-1" strike="noStrike">
                <a:solidFill>
                  <a:srgbClr val="ffffff"/>
                </a:solidFill>
                <a:latin typeface="Corbel"/>
              </a:rPr>
              <a:t>Сисањ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3200" spc="-1" strike="noStrike">
                <a:solidFill>
                  <a:srgbClr val="ffffff"/>
                </a:solidFill>
                <a:latin typeface="Corbel"/>
              </a:rPr>
              <a:t>Мимика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Line 4"/>
          <p:cNvSpPr/>
          <p:nvPr/>
        </p:nvSpPr>
        <p:spPr>
          <a:xfrm>
            <a:off x="609480" y="1295280"/>
            <a:ext cx="8305920" cy="0"/>
          </a:xfrm>
          <a:prstGeom prst="line">
            <a:avLst/>
          </a:prstGeom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298440" y="158760"/>
            <a:ext cx="8418600" cy="12794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0" y="1676160"/>
            <a:ext cx="9144000" cy="453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току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раст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развој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индивидуе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ОФ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систем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развиј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мењ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складу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са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lnSpc>
                <a:spcPct val="80000"/>
              </a:lnSpc>
              <a:spcBef>
                <a:spcPts val="649"/>
              </a:spcBef>
              <a:buClr>
                <a:srgbClr val="e66c7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развојем</a:t>
            </a:r>
            <a:r>
              <a:rPr b="0" lang="sr-Latn-C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околних</a:t>
            </a:r>
            <a:r>
              <a:rPr b="0" lang="sr-Latn-C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органа</a:t>
            </a:r>
            <a:r>
              <a:rPr b="0" lang="sr-Latn-C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и</a:t>
            </a:r>
            <a:r>
              <a:rPr b="0" lang="sr-Latn-C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структура</a:t>
            </a:r>
            <a:r>
              <a:rPr b="0" lang="sr-Latn-C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и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lnSpc>
                <a:spcPct val="80000"/>
              </a:lnSpc>
              <a:spcBef>
                <a:spcPts val="649"/>
              </a:spcBef>
              <a:buClr>
                <a:srgbClr val="e66c7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функцијским</a:t>
            </a:r>
            <a:r>
              <a:rPr b="0" lang="sr-Latn-C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захтевима</a:t>
            </a:r>
            <a:r>
              <a:rPr b="0" lang="sr-Latn-CS" sz="26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29120" indent="-312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29120" indent="-312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Адаптациј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функционално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трошење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је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нормалан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процес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који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одвиј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током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читавог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живот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5320" indent="-267120">
              <a:lnSpc>
                <a:spcPct val="120000"/>
              </a:lnSpc>
              <a:spcBef>
                <a:spcPts val="550"/>
              </a:spcBef>
              <a:buClr>
                <a:srgbClr val="ff3f8d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Ремоделирање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коштаних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структура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виличног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скелета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и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ТМЗ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5320" indent="-267120">
              <a:lnSpc>
                <a:spcPct val="80000"/>
              </a:lnSpc>
              <a:spcBef>
                <a:spcPts val="550"/>
              </a:spcBef>
              <a:buClr>
                <a:srgbClr val="ff0066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Компезаторна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ерупција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зуба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5320" indent="-267120">
              <a:lnSpc>
                <a:spcPct val="80000"/>
              </a:lnSpc>
              <a:spcBef>
                <a:spcPts val="550"/>
              </a:spcBef>
              <a:buClr>
                <a:srgbClr val="ff0066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Мезијална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миграција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зуба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5320" indent="-267120">
              <a:lnSpc>
                <a:spcPct val="80000"/>
              </a:lnSpc>
              <a:spcBef>
                <a:spcPts val="550"/>
              </a:spcBef>
              <a:buClr>
                <a:srgbClr val="ff0066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Абразија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5320" indent="-267120">
              <a:lnSpc>
                <a:spcPct val="80000"/>
              </a:lnSpc>
              <a:spcBef>
                <a:spcPts val="550"/>
              </a:spcBef>
              <a:buClr>
                <a:srgbClr val="ff0066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Промене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у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оклузалним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односима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29120" indent="-312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609480" y="1523880"/>
            <a:ext cx="8382240" cy="0"/>
          </a:xfrm>
          <a:prstGeom prst="line">
            <a:avLst/>
          </a:prstGeom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36512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4642920" y="2060280"/>
            <a:ext cx="4753080" cy="44211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lIns="54720" tIns="91440" anchor="t">
            <a:normAutofit/>
          </a:bodyPr>
          <a:p>
            <a:pPr marL="438120" indent="-318960">
              <a:buClr>
                <a:srgbClr val="6666ff"/>
              </a:buClr>
              <a:buSzPct val="17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Присуство</a:t>
            </a:r>
            <a:r>
              <a:rPr b="1" lang="de-DE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ексцесивних</a:t>
            </a:r>
            <a:r>
              <a:rPr b="1" lang="de-DE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сил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rbel"/>
              </a:rPr>
              <a:t>         </a:t>
            </a: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- </a:t>
            </a:r>
            <a:r>
              <a:rPr b="0" lang="bs-Cyrl-BA" sz="2400" spc="-1" strike="noStrike">
                <a:solidFill>
                  <a:srgbClr val="cc99ff"/>
                </a:solidFill>
                <a:latin typeface="Corbel"/>
              </a:rPr>
              <a:t>малоклузиј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         </a:t>
            </a: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- </a:t>
            </a:r>
            <a:r>
              <a:rPr b="0" lang="bs-Cyrl-BA" sz="2400" spc="-1" strike="noStrike">
                <a:solidFill>
                  <a:srgbClr val="cc99ff"/>
                </a:solidFill>
                <a:latin typeface="Corbel"/>
              </a:rPr>
              <a:t>оклузалне</a:t>
            </a: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cc99ff"/>
                </a:solidFill>
                <a:latin typeface="Corbel"/>
              </a:rPr>
              <a:t>сметњ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         </a:t>
            </a: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- </a:t>
            </a:r>
            <a:r>
              <a:rPr b="0" lang="bs-Cyrl-BA" sz="2400" spc="-1" strike="noStrike">
                <a:solidFill>
                  <a:srgbClr val="cc99ff"/>
                </a:solidFill>
                <a:latin typeface="Corbel"/>
              </a:rPr>
              <a:t>одсуство</a:t>
            </a: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cc99ff"/>
                </a:solidFill>
                <a:latin typeface="Corbel"/>
              </a:rPr>
              <a:t>бочних</a:t>
            </a: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cc99ff"/>
                </a:solidFill>
                <a:latin typeface="Corbel"/>
              </a:rPr>
              <a:t>зуб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         </a:t>
            </a: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- </a:t>
            </a:r>
            <a:r>
              <a:rPr b="0" lang="bs-Cyrl-BA" sz="2400" spc="-1" strike="noStrike">
                <a:solidFill>
                  <a:srgbClr val="cc99ff"/>
                </a:solidFill>
                <a:latin typeface="Corbel"/>
              </a:rPr>
              <a:t>парафункциј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6666ff"/>
              </a:buClr>
              <a:buSzPct val="17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Снижење</a:t>
            </a:r>
            <a:r>
              <a:rPr b="1" lang="de-DE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физиолошке</a:t>
            </a:r>
            <a:r>
              <a:rPr b="1" lang="de-DE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толеранције</a:t>
            </a:r>
            <a:r>
              <a:rPr b="1" lang="de-DE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ОФ</a:t>
            </a:r>
            <a:r>
              <a:rPr b="1" lang="de-DE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ткив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rbel"/>
              </a:rPr>
              <a:t>         </a:t>
            </a:r>
            <a:r>
              <a:rPr b="0" lang="de-DE" sz="2400" spc="-1" strike="noStrike">
                <a:solidFill>
                  <a:srgbClr val="c498fe"/>
                </a:solidFill>
                <a:latin typeface="Corbel"/>
              </a:rPr>
              <a:t>- </a:t>
            </a:r>
            <a:r>
              <a:rPr b="0" lang="bs-Cyrl-BA" sz="2400" spc="-1" strike="noStrike">
                <a:solidFill>
                  <a:srgbClr val="c498fe"/>
                </a:solidFill>
                <a:latin typeface="Corbel"/>
              </a:rPr>
              <a:t>л</a:t>
            </a:r>
            <a:r>
              <a:rPr b="0" i="1" lang="bs-Cyrl-BA" sz="2400" spc="-1" strike="noStrike">
                <a:solidFill>
                  <a:srgbClr val="c498fe"/>
                </a:solidFill>
                <a:latin typeface="Corbel"/>
              </a:rPr>
              <a:t>окална</a:t>
            </a:r>
            <a:r>
              <a:rPr b="0" i="1" lang="de-DE" sz="2400" spc="-1" strike="noStrike">
                <a:solidFill>
                  <a:srgbClr val="c498fe"/>
                </a:solidFill>
                <a:latin typeface="Corbel"/>
              </a:rPr>
              <a:t> </a:t>
            </a:r>
            <a:r>
              <a:rPr b="0" i="1" lang="bs-Cyrl-BA" sz="2400" spc="-1" strike="noStrike">
                <a:solidFill>
                  <a:srgbClr val="c498fe"/>
                </a:solidFill>
                <a:latin typeface="Corbel"/>
              </a:rPr>
              <a:t>обољењ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c498fe"/>
                </a:solidFill>
                <a:latin typeface="Corbel"/>
              </a:rPr>
              <a:t>         </a:t>
            </a:r>
            <a:r>
              <a:rPr b="0" i="1" lang="de-DE" sz="2400" spc="-1" strike="noStrike">
                <a:solidFill>
                  <a:srgbClr val="c498fe"/>
                </a:solidFill>
                <a:latin typeface="Corbel"/>
              </a:rPr>
              <a:t>- </a:t>
            </a:r>
            <a:r>
              <a:rPr b="0" i="1" lang="bs-Cyrl-BA" sz="2400" spc="-1" strike="noStrike">
                <a:solidFill>
                  <a:srgbClr val="c498fe"/>
                </a:solidFill>
                <a:latin typeface="Corbel"/>
              </a:rPr>
              <a:t>системска</a:t>
            </a:r>
            <a:r>
              <a:rPr b="0" i="1" lang="de-DE" sz="2400" spc="-1" strike="noStrike">
                <a:solidFill>
                  <a:srgbClr val="c498fe"/>
                </a:solidFill>
                <a:latin typeface="Corbel"/>
              </a:rPr>
              <a:t> </a:t>
            </a:r>
            <a:r>
              <a:rPr b="0" i="1" lang="bs-Cyrl-BA" sz="2400" spc="-1" strike="noStrike">
                <a:solidFill>
                  <a:srgbClr val="c498fe"/>
                </a:solidFill>
                <a:latin typeface="Corbel"/>
              </a:rPr>
              <a:t>оболјењ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Oval 4"/>
          <p:cNvSpPr/>
          <p:nvPr/>
        </p:nvSpPr>
        <p:spPr>
          <a:xfrm>
            <a:off x="395280" y="2060640"/>
            <a:ext cx="2160720" cy="10792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path path="rect">
              <a:fillToRect l="50000" t="50000" r="50000" b="50000"/>
            </a:path>
          </a:gradFill>
          <a:ln w="0">
            <a:solidFill>
              <a:srgbClr val="000000"/>
            </a:solidFill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Oval 5"/>
          <p:cNvSpPr/>
          <p:nvPr/>
        </p:nvSpPr>
        <p:spPr>
          <a:xfrm>
            <a:off x="2438280" y="2438280"/>
            <a:ext cx="2602080" cy="1711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solidFill>
              <a:srgbClr val="000000"/>
            </a:solidFill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Oval 6"/>
          <p:cNvSpPr/>
          <p:nvPr/>
        </p:nvSpPr>
        <p:spPr>
          <a:xfrm>
            <a:off x="3132000" y="5300640"/>
            <a:ext cx="1908360" cy="10796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solidFill>
              <a:srgbClr val="000000"/>
            </a:solidFill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3303360" y="5589720"/>
            <a:ext cx="1572480" cy="4597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5a63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ТМ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Oval 8"/>
          <p:cNvSpPr/>
          <p:nvPr/>
        </p:nvSpPr>
        <p:spPr>
          <a:xfrm>
            <a:off x="152280" y="4221000"/>
            <a:ext cx="2979720" cy="19512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solidFill>
              <a:srgbClr val="000000"/>
            </a:solidFill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9"/>
          <p:cNvSpPr/>
          <p:nvPr/>
        </p:nvSpPr>
        <p:spPr>
          <a:xfrm>
            <a:off x="-983160" y="4508640"/>
            <a:ext cx="4573440" cy="134388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5a63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Утицај</a:t>
            </a:r>
            <a:r>
              <a:rPr b="1" lang="de-DE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локалн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или</a:t>
            </a:r>
            <a:r>
              <a:rPr b="1" lang="de-DE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системс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de-DE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факт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0"/>
          <p:cNvSpPr/>
          <p:nvPr/>
        </p:nvSpPr>
        <p:spPr>
          <a:xfrm>
            <a:off x="2271960" y="2637000"/>
            <a:ext cx="2965320" cy="1343880"/>
          </a:xfrm>
          <a:prstGeom prst="rect">
            <a:avLst/>
          </a:prstGeom>
          <a:noFill/>
          <a:ln w="0">
            <a:noFill/>
          </a:ln>
          <a:effectLst>
            <a:outerShdw dist="45929" dir="7428877" blurRad="0" rotWithShape="0">
              <a:srgbClr val="5a63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Физиолош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толеран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О</a:t>
            </a:r>
            <a:r>
              <a:rPr b="1" lang="de-DE" sz="24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Ф</a:t>
            </a:r>
            <a:r>
              <a:rPr b="1" lang="de-DE" sz="24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тк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11"/>
          <p:cNvSpPr/>
          <p:nvPr/>
        </p:nvSpPr>
        <p:spPr>
          <a:xfrm>
            <a:off x="204120" y="2133720"/>
            <a:ext cx="2541600" cy="9018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5a63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Нормал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функ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Line 12"/>
          <p:cNvSpPr/>
          <p:nvPr/>
        </p:nvSpPr>
        <p:spPr>
          <a:xfrm flipH="1" flipV="1">
            <a:off x="1042200" y="3293280"/>
            <a:ext cx="71640" cy="855720"/>
          </a:xfrm>
          <a:prstGeom prst="line">
            <a:avLst/>
          </a:prstGeom>
          <a:noFill/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13"/>
          <p:cNvSpPr/>
          <p:nvPr/>
        </p:nvSpPr>
        <p:spPr>
          <a:xfrm flipV="1">
            <a:off x="2698920" y="4039560"/>
            <a:ext cx="433080" cy="361800"/>
          </a:xfrm>
          <a:prstGeom prst="line">
            <a:avLst/>
          </a:prstGeom>
          <a:noFill/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Line 14"/>
          <p:cNvSpPr/>
          <p:nvPr/>
        </p:nvSpPr>
        <p:spPr>
          <a:xfrm>
            <a:off x="3995640" y="4221000"/>
            <a:ext cx="71640" cy="976320"/>
          </a:xfrm>
          <a:prstGeom prst="line">
            <a:avLst/>
          </a:prstGeom>
          <a:noFill/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15"/>
          <p:cNvSpPr/>
          <p:nvPr/>
        </p:nvSpPr>
        <p:spPr>
          <a:xfrm>
            <a:off x="609480" y="1447920"/>
            <a:ext cx="8305920" cy="0"/>
          </a:xfrm>
          <a:prstGeom prst="line">
            <a:avLst/>
          </a:prstGeom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43080" indent="-343080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orbel"/>
              </a:rPr>
              <a:t>Иницирајући фактор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orbel"/>
              </a:rPr>
              <a:t>Предиспонирајући фактор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orbel"/>
              </a:rPr>
              <a:t>Перпетуирајући фактор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0" name="Rounded Rectangle 4" descr=""/>
          <p:cNvPicPr/>
          <p:nvPr/>
        </p:nvPicPr>
        <p:blipFill>
          <a:blip r:embed="rId5"/>
          <a:stretch/>
        </p:blipFill>
        <p:spPr>
          <a:xfrm>
            <a:off x="4346640" y="2475000"/>
            <a:ext cx="4419360" cy="1182600"/>
          </a:xfrm>
          <a:prstGeom prst="rect">
            <a:avLst/>
          </a:prstGeom>
          <a:ln w="0">
            <a:noFill/>
          </a:ln>
        </p:spPr>
      </p:pic>
      <p:pic>
        <p:nvPicPr>
          <p:cNvPr id="451" name="Rounded Rectangle 5" descr=""/>
          <p:cNvPicPr/>
          <p:nvPr/>
        </p:nvPicPr>
        <p:blipFill>
          <a:blip r:embed="rId6"/>
          <a:stretch/>
        </p:blipFill>
        <p:spPr>
          <a:xfrm>
            <a:off x="914400" y="3657600"/>
            <a:ext cx="3657600" cy="1828800"/>
          </a:xfrm>
          <a:prstGeom prst="rect">
            <a:avLst/>
          </a:prstGeom>
          <a:ln w="0">
            <a:noFill/>
          </a:ln>
        </p:spPr>
      </p:pic>
      <p:pic>
        <p:nvPicPr>
          <p:cNvPr id="452" name="Rounded Rectangle 6" descr=""/>
          <p:cNvPicPr/>
          <p:nvPr/>
        </p:nvPicPr>
        <p:blipFill>
          <a:blip r:embed="rId7"/>
          <a:stretch/>
        </p:blipFill>
        <p:spPr>
          <a:xfrm>
            <a:off x="5181480" y="4041720"/>
            <a:ext cx="3181320" cy="914400"/>
          </a:xfrm>
          <a:prstGeom prst="rect">
            <a:avLst/>
          </a:prstGeom>
          <a:ln w="0">
            <a:noFill/>
          </a:ln>
        </p:spPr>
      </p:pic>
      <p:pic>
        <p:nvPicPr>
          <p:cNvPr id="453" name="Rounded Rectangle 7" descr=""/>
          <p:cNvPicPr/>
          <p:nvPr/>
        </p:nvPicPr>
        <p:blipFill>
          <a:blip r:embed="rId8"/>
          <a:stretch/>
        </p:blipFill>
        <p:spPr>
          <a:xfrm>
            <a:off x="3505320" y="5619600"/>
            <a:ext cx="3736800" cy="725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410400" y="1340280"/>
            <a:ext cx="8292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Питања за активност у настави   I  неде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Орофацијални сис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Анатомске компоненте oрофацијалног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Функције орофацијалног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Функционално трошење и адаптација ОФ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Механизми поремећаја ОФ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16:53:31Z</dcterms:created>
  <dc:creator>Sinobad Vladimir</dc:creator>
  <dc:description/>
  <dc:language>en-US</dc:language>
  <cp:lastModifiedBy>Office2010</cp:lastModifiedBy>
  <dcterms:modified xsi:type="dcterms:W3CDTF">2017-08-27T12:39:56Z</dcterms:modified>
  <cp:revision>76</cp:revision>
  <dc:subject/>
  <dc:title>UVOD U GNATOLOGIJU</dc:title>
</cp:coreProperties>
</file>